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1879145-AF03-43AB-8686-99BA8C936F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49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11  TTÜ             T.Tammet        loeng 9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F2BDF0CD-43C2-4F64-880A-75C805F6F15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kasutatakse neid loodavate rakenduste komponentidena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1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idpilet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94840"/>
            <a:ext cx="7769160" cy="314280"/>
            <a:chOff x="914400" y="294840"/>
            <a:chExt cx="7769160" cy="314280"/>
          </a:xfrm>
        </p:grpSpPr>
        <p:sp>
          <p:nvSpPr>
            <p:cNvPr id="114" name="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3560" y="2948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502000"/>
            <a:ext cx="2438280" cy="2505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1817640"/>
            <a:ext cx="380880" cy="403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66880" y="3112920"/>
            <a:ext cx="533520" cy="555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920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30680" y="2971800"/>
            <a:ext cx="86040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716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38160" y="4876920"/>
            <a:ext cx="77796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738520" y="3429000"/>
            <a:ext cx="92376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824120" y="1747800"/>
            <a:ext cx="466560" cy="542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2200" y="432576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962520" y="3652920"/>
            <a:ext cx="152280" cy="46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2748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833040" y="1658520"/>
            <a:ext cx="1228680" cy="631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9540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14600" y="1747800"/>
            <a:ext cx="685800" cy="542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86000" y="3195360"/>
            <a:ext cx="1440" cy="237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00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1516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172200" y="1595520"/>
            <a:ext cx="63360" cy="46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7344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66040" y="2052720"/>
            <a:ext cx="1434960" cy="46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630320" y="3423960"/>
            <a:ext cx="1546200" cy="237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38160" y="4114800"/>
            <a:ext cx="343836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01720" y="3652920"/>
            <a:ext cx="1546200" cy="1380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338720" y="3881160"/>
            <a:ext cx="1380960" cy="20667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916320" y="4800600"/>
            <a:ext cx="63180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52960" y="5943600"/>
            <a:ext cx="63180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 näide ühest eesti 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94840"/>
            <a:ext cx="7769160" cy="314280"/>
            <a:chOff x="914400" y="294840"/>
            <a:chExt cx="7769160" cy="314280"/>
          </a:xfrm>
        </p:grpSpPr>
        <p:sp>
          <p:nvSpPr>
            <p:cNvPr id="182" name="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83560" y="2948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91120" y="2502000"/>
            <a:ext cx="2438280" cy="2505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91120" y="1817640"/>
            <a:ext cx="380880" cy="403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66880" y="3112920"/>
            <a:ext cx="533520" cy="555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593360" y="4793760"/>
            <a:ext cx="241560" cy="241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2200" y="45687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32040" y="4572000"/>
            <a:ext cx="93024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279520" y="2279520"/>
            <a:ext cx="1617840" cy="100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013000" y="3429000"/>
            <a:ext cx="116532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51120" y="2279520"/>
            <a:ext cx="470160" cy="927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7840" y="120168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6400" y="4114800"/>
            <a:ext cx="114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907560" y="3879360"/>
            <a:ext cx="241560" cy="241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2279520"/>
            <a:ext cx="228600" cy="927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029200" y="2508120"/>
            <a:ext cx="1143000" cy="927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013000" y="4107960"/>
            <a:ext cx="1165320" cy="241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99000" y="2743200"/>
            <a:ext cx="116532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299360" y="4260600"/>
            <a:ext cx="1393920" cy="889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1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3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3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584360" y="2270160"/>
            <a:ext cx="2243520" cy="338040"/>
            <a:chOff x="1584360" y="2270160"/>
            <a:chExt cx="2243520" cy="338040"/>
          </a:xfrm>
        </p:grpSpPr>
        <p:sp>
          <p:nvSpPr>
            <p:cNvPr id="244" name=""/>
            <p:cNvSpPr/>
            <p:nvPr/>
          </p:nvSpPr>
          <p:spPr>
            <a:xfrm>
              <a:off x="1584360" y="2270160"/>
              <a:ext cx="21240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252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18280" y="2422440"/>
            <a:ext cx="1108800" cy="338040"/>
            <a:chOff x="5318280" y="2422440"/>
            <a:chExt cx="1108800" cy="338040"/>
          </a:xfrm>
        </p:grpSpPr>
        <p:sp>
          <p:nvSpPr>
            <p:cNvPr id="247" name=""/>
            <p:cNvSpPr/>
            <p:nvPr/>
          </p:nvSpPr>
          <p:spPr>
            <a:xfrm>
              <a:off x="5318280" y="2422440"/>
              <a:ext cx="108252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4636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79640" y="4632480"/>
            <a:ext cx="1716120" cy="338040"/>
            <a:chOff x="2879640" y="4632480"/>
            <a:chExt cx="1716120" cy="338040"/>
          </a:xfrm>
        </p:grpSpPr>
        <p:sp>
          <p:nvSpPr>
            <p:cNvPr id="250" name=""/>
            <p:cNvSpPr/>
            <p:nvPr/>
          </p:nvSpPr>
          <p:spPr>
            <a:xfrm>
              <a:off x="2879640" y="4632480"/>
              <a:ext cx="167112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3004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794040" y="5040360"/>
            <a:ext cx="1896120" cy="307800"/>
            <a:chOff x="3794040" y="5040360"/>
            <a:chExt cx="1896120" cy="307800"/>
          </a:xfrm>
        </p:grpSpPr>
        <p:sp>
          <p:nvSpPr>
            <p:cNvPr id="253" name=""/>
            <p:cNvSpPr/>
            <p:nvPr/>
          </p:nvSpPr>
          <p:spPr>
            <a:xfrm>
              <a:off x="3794040" y="5040360"/>
              <a:ext cx="1863720" cy="3016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952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165640" y="2830680"/>
            <a:ext cx="1875960" cy="307800"/>
            <a:chOff x="5165640" y="2830680"/>
            <a:chExt cx="1875960" cy="307800"/>
          </a:xfrm>
        </p:grpSpPr>
        <p:sp>
          <p:nvSpPr>
            <p:cNvPr id="256" name=""/>
            <p:cNvSpPr/>
            <p:nvPr/>
          </p:nvSpPr>
          <p:spPr>
            <a:xfrm>
              <a:off x="5165640" y="2830680"/>
              <a:ext cx="1847880" cy="3013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076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33520" y="2664000"/>
            <a:ext cx="2184480" cy="307800"/>
            <a:chOff x="1433520" y="2664000"/>
            <a:chExt cx="2184480" cy="307800"/>
          </a:xfrm>
        </p:grpSpPr>
        <p:sp>
          <p:nvSpPr>
            <p:cNvPr id="259" name=""/>
            <p:cNvSpPr/>
            <p:nvPr/>
          </p:nvSpPr>
          <p:spPr>
            <a:xfrm>
              <a:off x="1433520" y="2664000"/>
              <a:ext cx="2130120" cy="3013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6772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6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, Linux, iOS, Android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7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(Flash, Jav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7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58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(Flash, Jav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8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(Flash, Jav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8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git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9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9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191120" y="3722400"/>
            <a:ext cx="1066680" cy="1089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306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311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838080" y="603360"/>
            <a:ext cx="7766280" cy="309600"/>
            <a:chOff x="838080" y="603360"/>
            <a:chExt cx="7766280" cy="309600"/>
          </a:xfrm>
        </p:grpSpPr>
        <p:sp>
          <p:nvSpPr>
            <p:cNvPr id="316" name=""/>
            <p:cNvSpPr/>
            <p:nvPr/>
          </p:nvSpPr>
          <p:spPr>
            <a:xfrm>
              <a:off x="838080" y="906480"/>
              <a:ext cx="77630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604360" y="6033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828800" y="3429000"/>
            <a:ext cx="295200" cy="299880"/>
            <a:chOff x="1828800" y="3429000"/>
            <a:chExt cx="295200" cy="299880"/>
          </a:xfrm>
        </p:grpSpPr>
        <p:sp>
          <p:nvSpPr>
            <p:cNvPr id="319" name=""/>
            <p:cNvSpPr/>
            <p:nvPr/>
          </p:nvSpPr>
          <p:spPr>
            <a:xfrm>
              <a:off x="1828800" y="34290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34290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2720" y="3429000"/>
              <a:ext cx="7128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323" name=""/>
            <p:cNvSpPr/>
            <p:nvPr/>
          </p:nvSpPr>
          <p:spPr>
            <a:xfrm>
              <a:off x="5181480" y="2514600"/>
              <a:ext cx="29556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2514600"/>
              <a:ext cx="29556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05400" y="25146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327" name=""/>
            <p:cNvSpPr/>
            <p:nvPr/>
          </p:nvSpPr>
          <p:spPr>
            <a:xfrm>
              <a:off x="3200400" y="3581280"/>
              <a:ext cx="295200" cy="30024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0400" y="3581280"/>
              <a:ext cx="295200" cy="7164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4320" y="3581280"/>
              <a:ext cx="71280" cy="30024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331" name=""/>
            <p:cNvSpPr/>
            <p:nvPr/>
          </p:nvSpPr>
          <p:spPr>
            <a:xfrm>
              <a:off x="4648320" y="350532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350532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1880" y="350532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335" name=""/>
            <p:cNvSpPr/>
            <p:nvPr/>
          </p:nvSpPr>
          <p:spPr>
            <a:xfrm>
              <a:off x="6248520" y="36576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8520" y="36576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36576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600200" y="5257800"/>
            <a:ext cx="295200" cy="299880"/>
            <a:chOff x="1600200" y="5257800"/>
            <a:chExt cx="295200" cy="299880"/>
          </a:xfrm>
        </p:grpSpPr>
        <p:sp>
          <p:nvSpPr>
            <p:cNvPr id="339" name=""/>
            <p:cNvSpPr/>
            <p:nvPr/>
          </p:nvSpPr>
          <p:spPr>
            <a:xfrm>
              <a:off x="1600200" y="52578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00200" y="52578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24120" y="5257800"/>
              <a:ext cx="7128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343" name=""/>
            <p:cNvSpPr/>
            <p:nvPr/>
          </p:nvSpPr>
          <p:spPr>
            <a:xfrm>
              <a:off x="3352680" y="2743200"/>
              <a:ext cx="29556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52680" y="2743200"/>
              <a:ext cx="29556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76600" y="27432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347" name=""/>
            <p:cNvSpPr/>
            <p:nvPr/>
          </p:nvSpPr>
          <p:spPr>
            <a:xfrm>
              <a:off x="3886200" y="5181480"/>
              <a:ext cx="295200" cy="30024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6200" y="5181480"/>
              <a:ext cx="295200" cy="7164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0120" y="5181480"/>
              <a:ext cx="71280" cy="30024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351" name=""/>
            <p:cNvSpPr/>
            <p:nvPr/>
          </p:nvSpPr>
          <p:spPr>
            <a:xfrm>
              <a:off x="5486400" y="48006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86400" y="48006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10320" y="4800600"/>
              <a:ext cx="7128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355" name=""/>
            <p:cNvSpPr/>
            <p:nvPr/>
          </p:nvSpPr>
          <p:spPr>
            <a:xfrm>
              <a:off x="3048120" y="45720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8120" y="45720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1680" y="45720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359" name=""/>
            <p:cNvSpPr/>
            <p:nvPr/>
          </p:nvSpPr>
          <p:spPr>
            <a:xfrm>
              <a:off x="5867280" y="1752480"/>
              <a:ext cx="295560" cy="30024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1752480"/>
              <a:ext cx="295560" cy="7164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1200" y="1752480"/>
              <a:ext cx="71640" cy="30024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V="1">
            <a:off x="2133720" y="3036960"/>
            <a:ext cx="122076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657600" y="2579400"/>
            <a:ext cx="152388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417840" y="3048120"/>
            <a:ext cx="986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410080" y="2046240"/>
            <a:ext cx="68760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865760" y="2819520"/>
            <a:ext cx="479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341160" y="3962520"/>
            <a:ext cx="31467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103280" y="3809880"/>
            <a:ext cx="7081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124080" y="3874680"/>
            <a:ext cx="152640" cy="7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676520" y="3722400"/>
            <a:ext cx="22860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505320" y="3570120"/>
            <a:ext cx="114300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191120" y="4865760"/>
            <a:ext cx="12967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905120" y="4865400"/>
            <a:ext cx="121896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638680" y="3951360"/>
            <a:ext cx="76212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657600" y="1817640"/>
            <a:ext cx="220968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172200" y="1512360"/>
            <a:ext cx="1143000" cy="2509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228800" y="4309920"/>
            <a:ext cx="1877760" cy="2306880"/>
            <a:chOff x="7228800" y="4309920"/>
            <a:chExt cx="1877760" cy="2306880"/>
          </a:xfrm>
        </p:grpSpPr>
        <p:sp>
          <p:nvSpPr>
            <p:cNvPr id="387" name=""/>
            <p:cNvSpPr/>
            <p:nvPr/>
          </p:nvSpPr>
          <p:spPr>
            <a:xfrm>
              <a:off x="7232760" y="4309920"/>
              <a:ext cx="1647720" cy="2306880"/>
            </a:xfrm>
            <a:custGeom>
              <a:avLst/>
              <a:gdLst>
                <a:gd name="textAreaLeft" fmla="*/ 360 w 1647720"/>
                <a:gd name="textAreaRight" fmla="*/ 1647360 w 1647720"/>
                <a:gd name="textAreaTop" fmla="*/ 360 h 2306880"/>
                <a:gd name="textAreaBottom" fmla="*/ 2306520 h 2306880"/>
              </a:gdLst>
              <a:ahLst/>
              <a:rect l="textAreaLeft" t="textAreaTop" r="textAreaRight" b="textAreaBottom"/>
              <a:pathLst>
                <a:path w="21600" h="30239">
                  <a:moveTo>
                    <a:pt x="20" y="0"/>
                  </a:moveTo>
                  <a:arcTo wR="20" hR="20" stAng="16200000" swAng="-5400000"/>
                  <a:lnTo>
                    <a:pt x="0" y="30219"/>
                  </a:lnTo>
                  <a:arcTo wR="20" hR="20" stAng="10800000" swAng="-5400000"/>
                  <a:lnTo>
                    <a:pt x="21580" y="30239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914400" y="549360"/>
            <a:ext cx="7769160" cy="311040"/>
            <a:chOff x="914400" y="549360"/>
            <a:chExt cx="7769160" cy="311040"/>
          </a:xfrm>
        </p:grpSpPr>
        <p:sp>
          <p:nvSpPr>
            <p:cNvPr id="392" name=""/>
            <p:cNvSpPr/>
            <p:nvPr/>
          </p:nvSpPr>
          <p:spPr>
            <a:xfrm>
              <a:off x="914400" y="85572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683560" y="54936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981080" y="3352680"/>
            <a:ext cx="454320" cy="532080"/>
            <a:chOff x="1981080" y="3352680"/>
            <a:chExt cx="454320" cy="532080"/>
          </a:xfrm>
        </p:grpSpPr>
        <p:sp>
          <p:nvSpPr>
            <p:cNvPr id="395" name=""/>
            <p:cNvSpPr/>
            <p:nvPr/>
          </p:nvSpPr>
          <p:spPr>
            <a:xfrm>
              <a:off x="1981080" y="3352680"/>
              <a:ext cx="454320" cy="5320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1140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5900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4400" y="37353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572000" y="1371600"/>
            <a:ext cx="453960" cy="531720"/>
            <a:chOff x="4572000" y="1371600"/>
            <a:chExt cx="453960" cy="531720"/>
          </a:xfrm>
        </p:grpSpPr>
        <p:sp>
          <p:nvSpPr>
            <p:cNvPr id="400" name=""/>
            <p:cNvSpPr/>
            <p:nvPr/>
          </p:nvSpPr>
          <p:spPr>
            <a:xfrm>
              <a:off x="4572000" y="137160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02320" y="1528920"/>
              <a:ext cx="4572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49920" y="1528920"/>
              <a:ext cx="4608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75320" y="175428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V="1">
            <a:off x="2436840" y="1895400"/>
            <a:ext cx="2057400" cy="1542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90920" y="2733480"/>
            <a:ext cx="220968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416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979640" y="3351240"/>
            <a:ext cx="453960" cy="531720"/>
            <a:chOff x="1979640" y="3351240"/>
            <a:chExt cx="453960" cy="531720"/>
          </a:xfrm>
        </p:grpSpPr>
        <p:sp>
          <p:nvSpPr>
            <p:cNvPr id="419" name=""/>
            <p:cNvSpPr/>
            <p:nvPr/>
          </p:nvSpPr>
          <p:spPr>
            <a:xfrm>
              <a:off x="1979640" y="335124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9960" y="3508200"/>
              <a:ext cx="4572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57560" y="350820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84400" y="3733920"/>
              <a:ext cx="249120" cy="489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570560" y="1370160"/>
            <a:ext cx="453960" cy="531720"/>
            <a:chOff x="4570560" y="1370160"/>
            <a:chExt cx="453960" cy="531720"/>
          </a:xfrm>
        </p:grpSpPr>
        <p:sp>
          <p:nvSpPr>
            <p:cNvPr id="424" name=""/>
            <p:cNvSpPr/>
            <p:nvPr/>
          </p:nvSpPr>
          <p:spPr>
            <a:xfrm>
              <a:off x="4570560" y="137016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00520" y="15271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48120" y="15271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75320" y="1752480"/>
              <a:ext cx="2491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875120" y="2360520"/>
            <a:ext cx="453960" cy="532080"/>
            <a:chOff x="4875120" y="2360520"/>
            <a:chExt cx="453960" cy="532080"/>
          </a:xfrm>
        </p:grpSpPr>
        <p:sp>
          <p:nvSpPr>
            <p:cNvPr id="429" name=""/>
            <p:cNvSpPr/>
            <p:nvPr/>
          </p:nvSpPr>
          <p:spPr>
            <a:xfrm>
              <a:off x="4875120" y="2360520"/>
              <a:ext cx="453960" cy="5320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05440" y="2519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53040" y="2519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79880" y="2744640"/>
              <a:ext cx="24948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494240" y="5484960"/>
            <a:ext cx="453960" cy="531720"/>
            <a:chOff x="4494240" y="5484960"/>
            <a:chExt cx="453960" cy="531720"/>
          </a:xfrm>
        </p:grpSpPr>
        <p:sp>
          <p:nvSpPr>
            <p:cNvPr id="434" name=""/>
            <p:cNvSpPr/>
            <p:nvPr/>
          </p:nvSpPr>
          <p:spPr>
            <a:xfrm>
              <a:off x="4494240" y="548496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24560" y="5641920"/>
              <a:ext cx="4572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72160" y="56419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99000" y="5867280"/>
              <a:ext cx="2491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03720" y="3427560"/>
            <a:ext cx="453960" cy="531720"/>
            <a:chOff x="5103720" y="3427560"/>
            <a:chExt cx="453960" cy="531720"/>
          </a:xfrm>
        </p:grpSpPr>
        <p:sp>
          <p:nvSpPr>
            <p:cNvPr id="439" name=""/>
            <p:cNvSpPr/>
            <p:nvPr/>
          </p:nvSpPr>
          <p:spPr>
            <a:xfrm>
              <a:off x="5103720" y="342756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34040" y="35845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81640" y="35845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08480" y="3809880"/>
              <a:ext cx="24948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75120" y="4646520"/>
            <a:ext cx="453960" cy="532080"/>
            <a:chOff x="4875120" y="4646520"/>
            <a:chExt cx="453960" cy="532080"/>
          </a:xfrm>
        </p:grpSpPr>
        <p:sp>
          <p:nvSpPr>
            <p:cNvPr id="444" name=""/>
            <p:cNvSpPr/>
            <p:nvPr/>
          </p:nvSpPr>
          <p:spPr>
            <a:xfrm>
              <a:off x="4875120" y="4646520"/>
              <a:ext cx="453960" cy="5320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05440" y="4805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53040" y="4805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79880" y="5030640"/>
              <a:ext cx="24948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 flipV="1">
            <a:off x="2436840" y="1891800"/>
            <a:ext cx="2057400" cy="1544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589120" y="2731680"/>
            <a:ext cx="221004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459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979640" y="3351240"/>
            <a:ext cx="453960" cy="531720"/>
            <a:chOff x="1979640" y="3351240"/>
            <a:chExt cx="453960" cy="531720"/>
          </a:xfrm>
        </p:grpSpPr>
        <p:sp>
          <p:nvSpPr>
            <p:cNvPr id="462" name=""/>
            <p:cNvSpPr/>
            <p:nvPr/>
          </p:nvSpPr>
          <p:spPr>
            <a:xfrm>
              <a:off x="1979640" y="335124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09960" y="3508200"/>
              <a:ext cx="4572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57560" y="350820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84400" y="3733920"/>
              <a:ext cx="249120" cy="489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 flipV="1">
            <a:off x="2436840" y="1891800"/>
            <a:ext cx="2057400" cy="1544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589120" y="2731680"/>
            <a:ext cx="221004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3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63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482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2436840" y="1891800"/>
            <a:ext cx="2057400" cy="1544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589120" y="2731680"/>
            <a:ext cx="221004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501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 flipV="1">
            <a:off x="1903320" y="2731680"/>
            <a:ext cx="228600" cy="933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436840" y="1131480"/>
            <a:ext cx="251460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1598760" y="3732120"/>
            <a:ext cx="453960" cy="532080"/>
            <a:chOff x="1598760" y="3732120"/>
            <a:chExt cx="453960" cy="532080"/>
          </a:xfrm>
        </p:grpSpPr>
        <p:sp>
          <p:nvSpPr>
            <p:cNvPr id="514" name=""/>
            <p:cNvSpPr/>
            <p:nvPr/>
          </p:nvSpPr>
          <p:spPr>
            <a:xfrm>
              <a:off x="1598760" y="3732120"/>
              <a:ext cx="453960" cy="5320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28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763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03520" y="4116240"/>
              <a:ext cx="2491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057400" y="3722760"/>
            <a:ext cx="3886200" cy="95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541560" y="2894040"/>
            <a:ext cx="933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455960" y="3046320"/>
            <a:ext cx="17172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08400" y="4417920"/>
            <a:ext cx="123804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526" name="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532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719680" y="4572000"/>
            <a:ext cx="449280" cy="525600"/>
            <a:chOff x="5719680" y="4572000"/>
            <a:chExt cx="449280" cy="525600"/>
          </a:xfrm>
        </p:grpSpPr>
        <p:sp>
          <p:nvSpPr>
            <p:cNvPr id="537" name=""/>
            <p:cNvSpPr/>
            <p:nvPr/>
          </p:nvSpPr>
          <p:spPr>
            <a:xfrm>
              <a:off x="5719680" y="4572000"/>
              <a:ext cx="4492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50000" y="47293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96160" y="4729320"/>
              <a:ext cx="4572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23000" y="495000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544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620120" y="5486400"/>
            <a:ext cx="449280" cy="525600"/>
            <a:chOff x="7620120" y="5486400"/>
            <a:chExt cx="449280" cy="525600"/>
          </a:xfrm>
        </p:grpSpPr>
        <p:sp>
          <p:nvSpPr>
            <p:cNvPr id="551" name=""/>
            <p:cNvSpPr/>
            <p:nvPr/>
          </p:nvSpPr>
          <p:spPr>
            <a:xfrm>
              <a:off x="7620120" y="5486400"/>
              <a:ext cx="4492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50080" y="56437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96240" y="56437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23080" y="586440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551640" y="3351240"/>
            <a:ext cx="450720" cy="527040"/>
            <a:chOff x="6551640" y="3351240"/>
            <a:chExt cx="450720" cy="527040"/>
          </a:xfrm>
        </p:grpSpPr>
        <p:sp>
          <p:nvSpPr>
            <p:cNvPr id="558" name=""/>
            <p:cNvSpPr/>
            <p:nvPr/>
          </p:nvSpPr>
          <p:spPr>
            <a:xfrm>
              <a:off x="6551640" y="335124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8340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2956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56400" y="373068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V="1">
            <a:off x="4267080" y="4712760"/>
            <a:ext cx="243864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8077320" y="4419720"/>
            <a:ext cx="449280" cy="525240"/>
            <a:chOff x="8077320" y="4419720"/>
            <a:chExt cx="449280" cy="525240"/>
          </a:xfrm>
        </p:grpSpPr>
        <p:sp>
          <p:nvSpPr>
            <p:cNvPr id="566" name=""/>
            <p:cNvSpPr/>
            <p:nvPr/>
          </p:nvSpPr>
          <p:spPr>
            <a:xfrm>
              <a:off x="8077320" y="44197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0728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5344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80280" y="479736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267080" y="4025880"/>
            <a:ext cx="381240" cy="403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743200" y="5322600"/>
            <a:ext cx="53352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578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620120" y="5486400"/>
            <a:ext cx="449280" cy="525600"/>
            <a:chOff x="7620120" y="5486400"/>
            <a:chExt cx="449280" cy="525600"/>
          </a:xfrm>
        </p:grpSpPr>
        <p:sp>
          <p:nvSpPr>
            <p:cNvPr id="585" name=""/>
            <p:cNvSpPr/>
            <p:nvPr/>
          </p:nvSpPr>
          <p:spPr>
            <a:xfrm>
              <a:off x="7620120" y="5486400"/>
              <a:ext cx="4492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48640" y="5641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96240" y="5641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721640" y="58644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551640" y="3351240"/>
            <a:ext cx="450720" cy="527040"/>
            <a:chOff x="6551640" y="3351240"/>
            <a:chExt cx="450720" cy="527040"/>
          </a:xfrm>
        </p:grpSpPr>
        <p:sp>
          <p:nvSpPr>
            <p:cNvPr id="592" name=""/>
            <p:cNvSpPr/>
            <p:nvPr/>
          </p:nvSpPr>
          <p:spPr>
            <a:xfrm>
              <a:off x="6551640" y="335124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81960" y="3508200"/>
              <a:ext cx="4572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29560" y="350820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54960" y="373068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flipV="1">
            <a:off x="4267080" y="4710240"/>
            <a:ext cx="2438640" cy="250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8077320" y="4419720"/>
            <a:ext cx="449280" cy="525240"/>
            <a:chOff x="8077320" y="4419720"/>
            <a:chExt cx="449280" cy="525240"/>
          </a:xfrm>
        </p:grpSpPr>
        <p:sp>
          <p:nvSpPr>
            <p:cNvPr id="600" name=""/>
            <p:cNvSpPr/>
            <p:nvPr/>
          </p:nvSpPr>
          <p:spPr>
            <a:xfrm>
              <a:off x="8077320" y="44197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20584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5344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78840" y="47973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267080" y="4025880"/>
            <a:ext cx="381240" cy="403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43200" y="5322600"/>
            <a:ext cx="53352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613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705720" y="2438280"/>
            <a:ext cx="1749240" cy="1292400"/>
            <a:chOff x="6705720" y="2438280"/>
            <a:chExt cx="1749240" cy="1292400"/>
          </a:xfrm>
        </p:grpSpPr>
        <p:sp>
          <p:nvSpPr>
            <p:cNvPr id="616" name=""/>
            <p:cNvSpPr/>
            <p:nvPr/>
          </p:nvSpPr>
          <p:spPr>
            <a:xfrm>
              <a:off x="6848640" y="2712960"/>
              <a:ext cx="2854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9520" y="286560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81920" y="250992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40520" y="32734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837560" y="282888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34200" y="294156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354800" y="326196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05720" y="243828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33520" y="3124080"/>
            <a:ext cx="1749240" cy="1292400"/>
            <a:chOff x="533520" y="3124080"/>
            <a:chExt cx="1749240" cy="1292400"/>
          </a:xfrm>
        </p:grpSpPr>
        <p:sp>
          <p:nvSpPr>
            <p:cNvPr id="625" name=""/>
            <p:cNvSpPr/>
            <p:nvPr/>
          </p:nvSpPr>
          <p:spPr>
            <a:xfrm>
              <a:off x="676440" y="3398760"/>
              <a:ext cx="2854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27320" y="355140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09720" y="319572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8320" y="39592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1665360" y="351468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2000" y="362736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1182600" y="394776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520" y="312408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828800" y="5105520"/>
            <a:ext cx="1749600" cy="1292040"/>
            <a:chOff x="1828800" y="5105520"/>
            <a:chExt cx="1749600" cy="1292040"/>
          </a:xfrm>
        </p:grpSpPr>
        <p:sp>
          <p:nvSpPr>
            <p:cNvPr id="634" name=""/>
            <p:cNvSpPr/>
            <p:nvPr/>
          </p:nvSpPr>
          <p:spPr>
            <a:xfrm>
              <a:off x="1971720" y="538020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22600" y="55324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05000" y="517680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62160" y="594036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960640" y="549576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5840" y="560880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478240" y="5928840"/>
              <a:ext cx="1648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1055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733920" y="3505320"/>
            <a:ext cx="1749240" cy="1292040"/>
            <a:chOff x="3733920" y="3505320"/>
            <a:chExt cx="1749240" cy="1292040"/>
          </a:xfrm>
        </p:grpSpPr>
        <p:sp>
          <p:nvSpPr>
            <p:cNvPr id="643" name=""/>
            <p:cNvSpPr/>
            <p:nvPr/>
          </p:nvSpPr>
          <p:spPr>
            <a:xfrm>
              <a:off x="3876840" y="378000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27720" y="393228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10120" y="357660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68720" y="434016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865760" y="389556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62400" y="400860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83000" y="43286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33920" y="3505320"/>
              <a:ext cx="174924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952880" y="5257800"/>
            <a:ext cx="1749600" cy="1292400"/>
            <a:chOff x="4952880" y="5257800"/>
            <a:chExt cx="1749600" cy="1292400"/>
          </a:xfrm>
        </p:grpSpPr>
        <p:sp>
          <p:nvSpPr>
            <p:cNvPr id="652" name=""/>
            <p:cNvSpPr/>
            <p:nvPr/>
          </p:nvSpPr>
          <p:spPr>
            <a:xfrm>
              <a:off x="5095800" y="55324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46680" y="5683320"/>
              <a:ext cx="285840" cy="4064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9440" y="532764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89480" y="609300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084720" y="5646600"/>
              <a:ext cx="11772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81720" y="576108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602320" y="607968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52880" y="52578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8151840" y="4800600"/>
            <a:ext cx="450720" cy="525600"/>
            <a:chOff x="8151840" y="4800600"/>
            <a:chExt cx="450720" cy="525600"/>
          </a:xfrm>
        </p:grpSpPr>
        <p:sp>
          <p:nvSpPr>
            <p:cNvPr id="662" name=""/>
            <p:cNvSpPr/>
            <p:nvPr/>
          </p:nvSpPr>
          <p:spPr>
            <a:xfrm>
              <a:off x="8151840" y="4800600"/>
              <a:ext cx="45072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283600" y="4957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29760" y="4957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56600" y="51786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67" name=""/>
          <p:cNvGrpSpPr/>
          <p:nvPr/>
        </p:nvGrpSpPr>
        <p:grpSpPr>
          <a:xfrm>
            <a:off x="3276720" y="2590920"/>
            <a:ext cx="449280" cy="525240"/>
            <a:chOff x="3276720" y="2590920"/>
            <a:chExt cx="449280" cy="525240"/>
          </a:xfrm>
        </p:grpSpPr>
        <p:sp>
          <p:nvSpPr>
            <p:cNvPr id="668" name=""/>
            <p:cNvSpPr/>
            <p:nvPr/>
          </p:nvSpPr>
          <p:spPr>
            <a:xfrm>
              <a:off x="3276720" y="25909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0668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528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79680" y="296856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8229600" y="3733920"/>
            <a:ext cx="450720" cy="525240"/>
            <a:chOff x="8229600" y="3733920"/>
            <a:chExt cx="450720" cy="525240"/>
          </a:xfrm>
        </p:grpSpPr>
        <p:sp>
          <p:nvSpPr>
            <p:cNvPr id="673" name=""/>
            <p:cNvSpPr/>
            <p:nvPr/>
          </p:nvSpPr>
          <p:spPr>
            <a:xfrm>
              <a:off x="8229600" y="3733920"/>
              <a:ext cx="45072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59920" y="3890880"/>
              <a:ext cx="4572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505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32920" y="4111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379440" y="6019920"/>
            <a:ext cx="450720" cy="525240"/>
            <a:chOff x="379440" y="6019920"/>
            <a:chExt cx="450720" cy="525240"/>
          </a:xfrm>
        </p:grpSpPr>
        <p:sp>
          <p:nvSpPr>
            <p:cNvPr id="678" name=""/>
            <p:cNvSpPr/>
            <p:nvPr/>
          </p:nvSpPr>
          <p:spPr>
            <a:xfrm>
              <a:off x="379440" y="6019920"/>
              <a:ext cx="45072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120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736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4200" y="6397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 flipV="1">
            <a:off x="1371600" y="5932080"/>
            <a:ext cx="380880" cy="174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486400" y="4103640"/>
            <a:ext cx="2057400" cy="98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562720" y="3112920"/>
            <a:ext cx="990360" cy="479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1588680" y="4408200"/>
            <a:ext cx="32724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569760" y="5715000"/>
            <a:ext cx="1241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2501640" y="3722400"/>
            <a:ext cx="101268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732040" y="4343400"/>
            <a:ext cx="9367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426760" y="2971800"/>
            <a:ext cx="7844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695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700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705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572000" y="3886200"/>
            <a:ext cx="609480" cy="2286000"/>
          </a:xfrm>
          <a:custGeom>
            <a:avLst/>
            <a:gdLst>
              <a:gd name="textAreaLeft" fmla="*/ 0 w 609480"/>
              <a:gd name="textAreaRight" fmla="*/ 219960 w 6094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9284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68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938160" y="577440"/>
            <a:ext cx="7767720" cy="314280"/>
            <a:chOff x="938160" y="577440"/>
            <a:chExt cx="7767720" cy="314280"/>
          </a:xfrm>
        </p:grpSpPr>
        <p:sp>
          <p:nvSpPr>
            <p:cNvPr id="712" name=""/>
            <p:cNvSpPr/>
            <p:nvPr/>
          </p:nvSpPr>
          <p:spPr>
            <a:xfrm>
              <a:off x="93816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870588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720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938160" y="577440"/>
            <a:ext cx="7767720" cy="314280"/>
            <a:chOff x="938160" y="577440"/>
            <a:chExt cx="7767720" cy="314280"/>
          </a:xfrm>
        </p:grpSpPr>
        <p:sp>
          <p:nvSpPr>
            <p:cNvPr id="725" name=""/>
            <p:cNvSpPr/>
            <p:nvPr/>
          </p:nvSpPr>
          <p:spPr>
            <a:xfrm>
              <a:off x="93816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70588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153280" y="4800600"/>
            <a:ext cx="451080" cy="525600"/>
            <a:chOff x="8153280" y="4800600"/>
            <a:chExt cx="451080" cy="525600"/>
          </a:xfrm>
        </p:grpSpPr>
        <p:sp>
          <p:nvSpPr>
            <p:cNvPr id="729" name=""/>
            <p:cNvSpPr/>
            <p:nvPr/>
          </p:nvSpPr>
          <p:spPr>
            <a:xfrm>
              <a:off x="8153280" y="4800600"/>
              <a:ext cx="4510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8360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42976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56600" y="51786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276720" y="2590920"/>
            <a:ext cx="449280" cy="525240"/>
            <a:chOff x="3276720" y="2590920"/>
            <a:chExt cx="449280" cy="525240"/>
          </a:xfrm>
        </p:grpSpPr>
        <p:sp>
          <p:nvSpPr>
            <p:cNvPr id="734" name=""/>
            <p:cNvSpPr/>
            <p:nvPr/>
          </p:nvSpPr>
          <p:spPr>
            <a:xfrm>
              <a:off x="3276720" y="25909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052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528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78240" y="2968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8229600" y="3733920"/>
            <a:ext cx="450720" cy="525240"/>
            <a:chOff x="8229600" y="3733920"/>
            <a:chExt cx="450720" cy="525240"/>
          </a:xfrm>
        </p:grpSpPr>
        <p:sp>
          <p:nvSpPr>
            <p:cNvPr id="739" name=""/>
            <p:cNvSpPr/>
            <p:nvPr/>
          </p:nvSpPr>
          <p:spPr>
            <a:xfrm>
              <a:off x="8229600" y="3733920"/>
              <a:ext cx="45072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59920" y="3890880"/>
              <a:ext cx="4572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05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332920" y="4111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0880" y="6019920"/>
            <a:ext cx="451080" cy="525240"/>
            <a:chOff x="380880" y="6019920"/>
            <a:chExt cx="451080" cy="525240"/>
          </a:xfrm>
        </p:grpSpPr>
        <p:sp>
          <p:nvSpPr>
            <p:cNvPr id="744" name=""/>
            <p:cNvSpPr/>
            <p:nvPr/>
          </p:nvSpPr>
          <p:spPr>
            <a:xfrm>
              <a:off x="380880" y="6019920"/>
              <a:ext cx="4510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120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736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4200" y="6397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V="1">
            <a:off x="1371600" y="5928840"/>
            <a:ext cx="380880" cy="174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486400" y="4103640"/>
            <a:ext cx="2057400" cy="98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486400" y="3189240"/>
            <a:ext cx="990720" cy="479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1588680" y="4408200"/>
            <a:ext cx="32724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569760" y="5715000"/>
            <a:ext cx="1241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2501640" y="3722400"/>
            <a:ext cx="101268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732040" y="4343400"/>
            <a:ext cx="9367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426760" y="2971800"/>
            <a:ext cx="7844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33520" y="2971800"/>
            <a:ext cx="1751040" cy="1292400"/>
            <a:chOff x="533520" y="2971800"/>
            <a:chExt cx="1751040" cy="1292400"/>
          </a:xfrm>
        </p:grpSpPr>
        <p:sp>
          <p:nvSpPr>
            <p:cNvPr id="757" name=""/>
            <p:cNvSpPr/>
            <p:nvPr/>
          </p:nvSpPr>
          <p:spPr>
            <a:xfrm>
              <a:off x="533520" y="297180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841320" y="2971800"/>
              <a:ext cx="1212840" cy="1139760"/>
              <a:chOff x="841320" y="2971800"/>
              <a:chExt cx="1212840" cy="1139760"/>
            </a:xfrm>
          </p:grpSpPr>
          <p:sp>
            <p:nvSpPr>
              <p:cNvPr id="759" name=""/>
              <p:cNvSpPr/>
              <p:nvPr/>
            </p:nvSpPr>
            <p:spPr>
              <a:xfrm flipV="1">
                <a:off x="1627200" y="3290760"/>
                <a:ext cx="11736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025640" y="340344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147680" y="3646080"/>
                <a:ext cx="16524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1833480" y="2971800"/>
                <a:ext cx="220680" cy="453960"/>
                <a:chOff x="1833480" y="2971800"/>
                <a:chExt cx="220680" cy="45396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833480" y="29718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897200" y="31068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969920" y="31068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884240" y="32986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1376280" y="3200400"/>
                <a:ext cx="220680" cy="453960"/>
                <a:chOff x="1376280" y="3200400"/>
                <a:chExt cx="220680" cy="45396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1376280" y="32004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440000" y="33354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512720" y="33354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427040" y="35272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841320" y="3044880"/>
                <a:ext cx="220680" cy="453960"/>
                <a:chOff x="841320" y="3044880"/>
                <a:chExt cx="220680" cy="4539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841320" y="304488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905040" y="317988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976320" y="317988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92080" y="337032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919080" y="3657600"/>
                <a:ext cx="220680" cy="453960"/>
                <a:chOff x="919080" y="3657600"/>
                <a:chExt cx="220680" cy="45396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919080" y="36576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982800" y="37926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055520" y="37926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969840" y="39844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"/>
            <p:cNvSpPr/>
            <p:nvPr/>
          </p:nvSpPr>
          <p:spPr>
            <a:xfrm>
              <a:off x="534960" y="29718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676520" y="5029200"/>
            <a:ext cx="1749240" cy="1292400"/>
            <a:chOff x="1676520" y="5029200"/>
            <a:chExt cx="1749240" cy="1292400"/>
          </a:xfrm>
        </p:grpSpPr>
        <p:sp>
          <p:nvSpPr>
            <p:cNvPr id="784" name=""/>
            <p:cNvSpPr/>
            <p:nvPr/>
          </p:nvSpPr>
          <p:spPr>
            <a:xfrm>
              <a:off x="1676520" y="502920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1984320" y="5029200"/>
              <a:ext cx="1212840" cy="1139760"/>
              <a:chOff x="1984320" y="5029200"/>
              <a:chExt cx="1212840" cy="1139760"/>
            </a:xfrm>
          </p:grpSpPr>
          <p:sp>
            <p:nvSpPr>
              <p:cNvPr id="786" name=""/>
              <p:cNvSpPr/>
              <p:nvPr/>
            </p:nvSpPr>
            <p:spPr>
              <a:xfrm flipV="1">
                <a:off x="2770200" y="5348160"/>
                <a:ext cx="11736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168640" y="546084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2290680" y="5703480"/>
                <a:ext cx="16524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2976480" y="5029200"/>
                <a:ext cx="220680" cy="453960"/>
                <a:chOff x="2976480" y="5029200"/>
                <a:chExt cx="220680" cy="45396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976480" y="50292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040200" y="51642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112920" y="51642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027240" y="53560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2519280" y="5257800"/>
                <a:ext cx="220680" cy="453960"/>
                <a:chOff x="2519280" y="5257800"/>
                <a:chExt cx="220680" cy="45396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2519280" y="52578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583000" y="53928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655720" y="53928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570040" y="55846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1984320" y="5102280"/>
                <a:ext cx="220680" cy="453960"/>
                <a:chOff x="1984320" y="5102280"/>
                <a:chExt cx="220680" cy="4539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1984320" y="510228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8040" y="523728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119320" y="523728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033640" y="542772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062080" y="5715000"/>
                <a:ext cx="220680" cy="453960"/>
                <a:chOff x="2062080" y="5715000"/>
                <a:chExt cx="220680" cy="45396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062080" y="57150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125800" y="58500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198520" y="58500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112840" y="60418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9" name=""/>
            <p:cNvSpPr/>
            <p:nvPr/>
          </p:nvSpPr>
          <p:spPr>
            <a:xfrm>
              <a:off x="1676520" y="502920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657600" y="3733920"/>
            <a:ext cx="1749600" cy="1292040"/>
            <a:chOff x="3657600" y="3733920"/>
            <a:chExt cx="1749600" cy="1292040"/>
          </a:xfrm>
        </p:grpSpPr>
        <p:sp>
          <p:nvSpPr>
            <p:cNvPr id="811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963960" y="3733920"/>
              <a:ext cx="1214640" cy="1139760"/>
              <a:chOff x="3963960" y="3733920"/>
              <a:chExt cx="1214640" cy="1139760"/>
            </a:xfrm>
          </p:grpSpPr>
          <p:sp>
            <p:nvSpPr>
              <p:cNvPr id="813" name=""/>
              <p:cNvSpPr/>
              <p:nvPr/>
            </p:nvSpPr>
            <p:spPr>
              <a:xfrm flipV="1">
                <a:off x="4751280" y="4052880"/>
                <a:ext cx="11772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149720" y="41655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4272120" y="4406400"/>
                <a:ext cx="1648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6" name=""/>
              <p:cNvGrpSpPr/>
              <p:nvPr/>
            </p:nvGrpSpPr>
            <p:grpSpPr>
              <a:xfrm>
                <a:off x="4957920" y="3733920"/>
                <a:ext cx="220680" cy="453960"/>
                <a:chOff x="4957920" y="3733920"/>
                <a:chExt cx="220680" cy="45396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4957920" y="37339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021280" y="38671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094360" y="38671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008680" y="40608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4500720" y="3962520"/>
                <a:ext cx="220680" cy="453960"/>
                <a:chOff x="4500720" y="3962520"/>
                <a:chExt cx="220680" cy="45396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4500720" y="39625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564080" y="40957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637160" y="40957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551480" y="42894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3963960" y="3805200"/>
                <a:ext cx="220680" cy="453960"/>
                <a:chOff x="3963960" y="3805200"/>
                <a:chExt cx="220680" cy="4539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3963960" y="38052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029120" y="39402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102200" y="3940200"/>
                  <a:ext cx="205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014720" y="41324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043520" y="4419720"/>
                <a:ext cx="220680" cy="453960"/>
                <a:chOff x="4043520" y="4419720"/>
                <a:chExt cx="220680" cy="45396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043520" y="44197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106880" y="45529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179960" y="45529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094280" y="47466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029200" y="5105520"/>
            <a:ext cx="1749600" cy="1292040"/>
            <a:chOff x="5029200" y="5105520"/>
            <a:chExt cx="1749600" cy="1292040"/>
          </a:xfrm>
        </p:grpSpPr>
        <p:sp>
          <p:nvSpPr>
            <p:cNvPr id="838" name=""/>
            <p:cNvSpPr/>
            <p:nvPr/>
          </p:nvSpPr>
          <p:spPr>
            <a:xfrm>
              <a:off x="5029200" y="51055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5335560" y="5105520"/>
              <a:ext cx="1214640" cy="1139760"/>
              <a:chOff x="5335560" y="5105520"/>
              <a:chExt cx="1214640" cy="113976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6122880" y="5424480"/>
                <a:ext cx="11772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521320" y="55371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643720" y="5778000"/>
                <a:ext cx="1648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6329520" y="5105520"/>
                <a:ext cx="220680" cy="453960"/>
                <a:chOff x="6329520" y="5105520"/>
                <a:chExt cx="220680" cy="4539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329520" y="51055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392880" y="52387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465960" y="52387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380280" y="54324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872320" y="5334120"/>
                <a:ext cx="220680" cy="453960"/>
                <a:chOff x="5872320" y="5334120"/>
                <a:chExt cx="220680" cy="45396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872320" y="53341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935680" y="54673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008760" y="54673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923080" y="56610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5335560" y="5176800"/>
                <a:ext cx="220680" cy="453960"/>
                <a:chOff x="5335560" y="5176800"/>
                <a:chExt cx="220680" cy="45396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335560" y="51768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00720" y="53118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473800" y="5311800"/>
                  <a:ext cx="205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386320" y="55040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5415120" y="5791320"/>
                <a:ext cx="220680" cy="453960"/>
                <a:chOff x="5415120" y="5791320"/>
                <a:chExt cx="220680" cy="45396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415120" y="57913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478480" y="59245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551560" y="59245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465880" y="61182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3" name=""/>
            <p:cNvSpPr/>
            <p:nvPr/>
          </p:nvSpPr>
          <p:spPr>
            <a:xfrm>
              <a:off x="5029200" y="51055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657600" y="3733920"/>
            <a:ext cx="1749600" cy="1292040"/>
            <a:chOff x="3657600" y="3733920"/>
            <a:chExt cx="1749600" cy="1292040"/>
          </a:xfrm>
        </p:grpSpPr>
        <p:sp>
          <p:nvSpPr>
            <p:cNvPr id="865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963960" y="3733920"/>
              <a:ext cx="1214640" cy="1139760"/>
              <a:chOff x="3963960" y="3733920"/>
              <a:chExt cx="1214640" cy="1139760"/>
            </a:xfrm>
          </p:grpSpPr>
          <p:sp>
            <p:nvSpPr>
              <p:cNvPr id="867" name=""/>
              <p:cNvSpPr/>
              <p:nvPr/>
            </p:nvSpPr>
            <p:spPr>
              <a:xfrm flipV="1">
                <a:off x="4751280" y="4052880"/>
                <a:ext cx="11772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49720" y="41655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4272120" y="4406400"/>
                <a:ext cx="1648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4957920" y="3733920"/>
                <a:ext cx="220680" cy="453960"/>
                <a:chOff x="4957920" y="3733920"/>
                <a:chExt cx="220680" cy="4539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4957920" y="37339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021280" y="38671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94360" y="38671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008680" y="40608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4500720" y="3962520"/>
                <a:ext cx="220680" cy="453960"/>
                <a:chOff x="4500720" y="3962520"/>
                <a:chExt cx="220680" cy="45396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4500720" y="39625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64080" y="40957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637160" y="40957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551480" y="42894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3963960" y="3805200"/>
                <a:ext cx="220680" cy="453960"/>
                <a:chOff x="3963960" y="3805200"/>
                <a:chExt cx="220680" cy="45396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3963960" y="38052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029120" y="39402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102200" y="3940200"/>
                  <a:ext cx="205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014720" y="41324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4043520" y="4419720"/>
                <a:ext cx="220680" cy="453960"/>
                <a:chOff x="4043520" y="4419720"/>
                <a:chExt cx="220680" cy="45396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4043520" y="44197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106880" y="45529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179960" y="45529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094280" y="47466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6477120" y="2362320"/>
            <a:ext cx="1749240" cy="1292040"/>
            <a:chOff x="6477120" y="2362320"/>
            <a:chExt cx="1749240" cy="1292040"/>
          </a:xfrm>
        </p:grpSpPr>
        <p:sp>
          <p:nvSpPr>
            <p:cNvPr id="892" name=""/>
            <p:cNvSpPr/>
            <p:nvPr/>
          </p:nvSpPr>
          <p:spPr>
            <a:xfrm>
              <a:off x="6477120" y="2362320"/>
              <a:ext cx="174924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6784920" y="2362320"/>
              <a:ext cx="1212840" cy="1139760"/>
              <a:chOff x="6784920" y="2362320"/>
              <a:chExt cx="1212840" cy="11397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570800" y="2681280"/>
                <a:ext cx="11736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969240" y="27939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7091280" y="3034800"/>
                <a:ext cx="16524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7777080" y="2362320"/>
                <a:ext cx="220680" cy="453960"/>
                <a:chOff x="7777080" y="2362320"/>
                <a:chExt cx="220680" cy="45396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7777080" y="23623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840800" y="249552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913520" y="2495520"/>
                  <a:ext cx="208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827840" y="26892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7319880" y="2590920"/>
                <a:ext cx="220680" cy="453960"/>
                <a:chOff x="7319880" y="2590920"/>
                <a:chExt cx="220680" cy="4539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7319880" y="25909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383600" y="272412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456320" y="2724120"/>
                  <a:ext cx="208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370640" y="29178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6784920" y="2433600"/>
                <a:ext cx="220680" cy="453960"/>
                <a:chOff x="6784920" y="2433600"/>
                <a:chExt cx="220680" cy="45396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6784920" y="24336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848640" y="25686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919920" y="25686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834240" y="27608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6862680" y="3048120"/>
                <a:ext cx="220680" cy="453960"/>
                <a:chOff x="6862680" y="3048120"/>
                <a:chExt cx="220680" cy="45396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6862680" y="30481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926400" y="318132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999120" y="3181320"/>
                  <a:ext cx="208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13440" y="33750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"/>
            <p:cNvSpPr/>
            <p:nvPr/>
          </p:nvSpPr>
          <p:spPr>
            <a:xfrm>
              <a:off x="6477120" y="2362320"/>
              <a:ext cx="174924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936720" y="574200"/>
            <a:ext cx="7769160" cy="314280"/>
            <a:chOff x="936720" y="574200"/>
            <a:chExt cx="7769160" cy="314280"/>
          </a:xfrm>
        </p:grpSpPr>
        <p:sp>
          <p:nvSpPr>
            <p:cNvPr id="921" name=""/>
            <p:cNvSpPr/>
            <p:nvPr/>
          </p:nvSpPr>
          <p:spPr>
            <a:xfrm>
              <a:off x="93672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8705880" y="5742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8153280" y="4799160"/>
            <a:ext cx="451080" cy="527040"/>
            <a:chOff x="8153280" y="4799160"/>
            <a:chExt cx="451080" cy="527040"/>
          </a:xfrm>
        </p:grpSpPr>
        <p:sp>
          <p:nvSpPr>
            <p:cNvPr id="925" name=""/>
            <p:cNvSpPr/>
            <p:nvPr/>
          </p:nvSpPr>
          <p:spPr>
            <a:xfrm>
              <a:off x="8153280" y="4799160"/>
              <a:ext cx="45108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28360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2976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256600" y="51786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3276720" y="2590920"/>
            <a:ext cx="450720" cy="527040"/>
            <a:chOff x="3276720" y="2590920"/>
            <a:chExt cx="450720" cy="527040"/>
          </a:xfrm>
        </p:grpSpPr>
        <p:sp>
          <p:nvSpPr>
            <p:cNvPr id="931" name=""/>
            <p:cNvSpPr/>
            <p:nvPr/>
          </p:nvSpPr>
          <p:spPr>
            <a:xfrm>
              <a:off x="3276720" y="259092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052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528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78240" y="2968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8228160" y="3733920"/>
            <a:ext cx="450720" cy="527040"/>
            <a:chOff x="8228160" y="3733920"/>
            <a:chExt cx="450720" cy="527040"/>
          </a:xfrm>
        </p:grpSpPr>
        <p:sp>
          <p:nvSpPr>
            <p:cNvPr id="936" name=""/>
            <p:cNvSpPr/>
            <p:nvPr/>
          </p:nvSpPr>
          <p:spPr>
            <a:xfrm>
              <a:off x="8228160" y="373392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581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505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31120" y="4111560"/>
              <a:ext cx="2494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380880" y="6019920"/>
            <a:ext cx="451080" cy="527040"/>
            <a:chOff x="380880" y="6019920"/>
            <a:chExt cx="451080" cy="527040"/>
          </a:xfrm>
        </p:grpSpPr>
        <p:sp>
          <p:nvSpPr>
            <p:cNvPr id="941" name=""/>
            <p:cNvSpPr/>
            <p:nvPr/>
          </p:nvSpPr>
          <p:spPr>
            <a:xfrm>
              <a:off x="380880" y="6019920"/>
              <a:ext cx="45108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120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736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4200" y="6397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 flipV="1">
            <a:off x="1371600" y="5928840"/>
            <a:ext cx="380880" cy="174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5486400" y="4100400"/>
            <a:ext cx="2057400" cy="100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486400" y="3189240"/>
            <a:ext cx="990720" cy="479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1587240" y="4408200"/>
            <a:ext cx="32868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569760" y="5715000"/>
            <a:ext cx="1241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2501640" y="3719160"/>
            <a:ext cx="101268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2732040" y="4341960"/>
            <a:ext cx="93672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425320" y="2970360"/>
            <a:ext cx="78588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878360" y="5257800"/>
            <a:ext cx="1749600" cy="1292400"/>
            <a:chOff x="4878360" y="5257800"/>
            <a:chExt cx="1749600" cy="1292400"/>
          </a:xfrm>
        </p:grpSpPr>
        <p:sp>
          <p:nvSpPr>
            <p:cNvPr id="956" name=""/>
            <p:cNvSpPr/>
            <p:nvPr/>
          </p:nvSpPr>
          <p:spPr>
            <a:xfrm>
              <a:off x="5106960" y="604512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45040" y="5538960"/>
              <a:ext cx="287280" cy="40464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878360" y="52578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892840" y="562752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289480" y="5742000"/>
              <a:ext cx="21456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413320" y="59828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6097680" y="5308560"/>
              <a:ext cx="222120" cy="453960"/>
              <a:chOff x="6097680" y="5308560"/>
              <a:chExt cx="222120" cy="453960"/>
            </a:xfrm>
          </p:grpSpPr>
          <p:sp>
            <p:nvSpPr>
              <p:cNvPr id="963" name=""/>
              <p:cNvSpPr/>
              <p:nvPr/>
            </p:nvSpPr>
            <p:spPr>
              <a:xfrm>
                <a:off x="6097680" y="53085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62840" y="54435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35560" y="54435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148440" y="56358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5640480" y="5537160"/>
              <a:ext cx="222120" cy="453960"/>
              <a:chOff x="5640480" y="5537160"/>
              <a:chExt cx="222120" cy="453960"/>
            </a:xfrm>
          </p:grpSpPr>
          <p:sp>
            <p:nvSpPr>
              <p:cNvPr id="968" name=""/>
              <p:cNvSpPr/>
              <p:nvPr/>
            </p:nvSpPr>
            <p:spPr>
              <a:xfrm>
                <a:off x="5640480" y="55371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705640" y="56721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778360" y="56721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91240" y="58644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534960" y="2820960"/>
            <a:ext cx="1749600" cy="1292400"/>
            <a:chOff x="534960" y="2820960"/>
            <a:chExt cx="1749600" cy="1292400"/>
          </a:xfrm>
        </p:grpSpPr>
        <p:sp>
          <p:nvSpPr>
            <p:cNvPr id="973" name=""/>
            <p:cNvSpPr/>
            <p:nvPr/>
          </p:nvSpPr>
          <p:spPr>
            <a:xfrm>
              <a:off x="763560" y="360828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1640" y="3100320"/>
              <a:ext cx="287280" cy="4050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4960" y="282096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549440" y="3190680"/>
              <a:ext cx="11736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46080" y="3303720"/>
              <a:ext cx="21456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1069920" y="354600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1754280" y="2871720"/>
              <a:ext cx="222120" cy="453960"/>
              <a:chOff x="1754280" y="2871720"/>
              <a:chExt cx="222120" cy="453960"/>
            </a:xfrm>
          </p:grpSpPr>
          <p:sp>
            <p:nvSpPr>
              <p:cNvPr id="980" name=""/>
              <p:cNvSpPr/>
              <p:nvPr/>
            </p:nvSpPr>
            <p:spPr>
              <a:xfrm>
                <a:off x="1754280" y="28717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819440" y="300672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92160" y="30067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805040" y="31989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1297080" y="3100320"/>
              <a:ext cx="222120" cy="453960"/>
              <a:chOff x="1297080" y="3100320"/>
              <a:chExt cx="222120" cy="453960"/>
            </a:xfrm>
          </p:grpSpPr>
          <p:sp>
            <p:nvSpPr>
              <p:cNvPr id="985" name=""/>
              <p:cNvSpPr/>
              <p:nvPr/>
            </p:nvSpPr>
            <p:spPr>
              <a:xfrm>
                <a:off x="1297080" y="31003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62240" y="323532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34960" y="32353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47840" y="34275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1828800" y="5029200"/>
            <a:ext cx="1749600" cy="1292400"/>
            <a:chOff x="1828800" y="5029200"/>
            <a:chExt cx="1749600" cy="1292400"/>
          </a:xfrm>
        </p:grpSpPr>
        <p:sp>
          <p:nvSpPr>
            <p:cNvPr id="990" name=""/>
            <p:cNvSpPr/>
            <p:nvPr/>
          </p:nvSpPr>
          <p:spPr>
            <a:xfrm>
              <a:off x="2057400" y="581652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96920" y="5310360"/>
              <a:ext cx="287640" cy="40464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828800" y="50292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2843280" y="539892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41720" y="551340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2363760" y="57542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049560" y="5079960"/>
              <a:ext cx="222120" cy="453960"/>
              <a:chOff x="3049560" y="5079960"/>
              <a:chExt cx="222120" cy="453960"/>
            </a:xfrm>
          </p:grpSpPr>
          <p:sp>
            <p:nvSpPr>
              <p:cNvPr id="997" name=""/>
              <p:cNvSpPr/>
              <p:nvPr/>
            </p:nvSpPr>
            <p:spPr>
              <a:xfrm>
                <a:off x="3049560" y="50799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112920" y="52149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186000" y="52149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100320" y="54072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2592360" y="5308560"/>
              <a:ext cx="222120" cy="453960"/>
              <a:chOff x="2592360" y="5308560"/>
              <a:chExt cx="222120" cy="453960"/>
            </a:xfrm>
          </p:grpSpPr>
          <p:sp>
            <p:nvSpPr>
              <p:cNvPr id="1002" name=""/>
              <p:cNvSpPr/>
              <p:nvPr/>
            </p:nvSpPr>
            <p:spPr>
              <a:xfrm>
                <a:off x="2592360" y="53085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655720" y="54435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28800" y="54435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43120" y="56358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"/>
          <p:cNvGrpSpPr/>
          <p:nvPr/>
        </p:nvGrpSpPr>
        <p:grpSpPr>
          <a:xfrm>
            <a:off x="3657600" y="3506760"/>
            <a:ext cx="1749600" cy="1292400"/>
            <a:chOff x="3657600" y="3506760"/>
            <a:chExt cx="1749600" cy="1292400"/>
          </a:xfrm>
        </p:grpSpPr>
        <p:sp>
          <p:nvSpPr>
            <p:cNvPr id="1007" name=""/>
            <p:cNvSpPr/>
            <p:nvPr/>
          </p:nvSpPr>
          <p:spPr>
            <a:xfrm>
              <a:off x="3886200" y="429408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25720" y="3786120"/>
              <a:ext cx="287640" cy="4050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57600" y="350676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4672080" y="3876480"/>
              <a:ext cx="11736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70520" y="398952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192560" y="423180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4878360" y="3557520"/>
              <a:ext cx="222120" cy="453960"/>
              <a:chOff x="4878360" y="3557520"/>
              <a:chExt cx="222120" cy="453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78360" y="35575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41720" y="36925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14800" y="36925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29120" y="38847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4421160" y="3786120"/>
              <a:ext cx="222120" cy="453960"/>
              <a:chOff x="4421160" y="3786120"/>
              <a:chExt cx="222120" cy="453960"/>
            </a:xfrm>
          </p:grpSpPr>
          <p:sp>
            <p:nvSpPr>
              <p:cNvPr id="1019" name=""/>
              <p:cNvSpPr/>
              <p:nvPr/>
            </p:nvSpPr>
            <p:spPr>
              <a:xfrm>
                <a:off x="4421160" y="37861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484520" y="39211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57600" y="39211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471920" y="41133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478560" y="2514600"/>
            <a:ext cx="1749600" cy="1292400"/>
            <a:chOff x="6478560" y="2514600"/>
            <a:chExt cx="1749600" cy="1292400"/>
          </a:xfrm>
        </p:grpSpPr>
        <p:sp>
          <p:nvSpPr>
            <p:cNvPr id="1024" name=""/>
            <p:cNvSpPr/>
            <p:nvPr/>
          </p:nvSpPr>
          <p:spPr>
            <a:xfrm>
              <a:off x="6707160" y="330192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45240" y="2795760"/>
              <a:ext cx="287280" cy="40464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8560" y="25146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493040" y="288432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89680" y="2998800"/>
              <a:ext cx="21456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7013520" y="32396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697880" y="2565360"/>
              <a:ext cx="222120" cy="453960"/>
              <a:chOff x="7697880" y="2565360"/>
              <a:chExt cx="222120" cy="453960"/>
            </a:xfrm>
          </p:grpSpPr>
          <p:sp>
            <p:nvSpPr>
              <p:cNvPr id="1031" name=""/>
              <p:cNvSpPr/>
              <p:nvPr/>
            </p:nvSpPr>
            <p:spPr>
              <a:xfrm>
                <a:off x="7697880" y="25653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763040" y="27003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835760" y="27003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748640" y="28926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7240680" y="2793960"/>
              <a:ext cx="222120" cy="453960"/>
              <a:chOff x="7240680" y="2793960"/>
              <a:chExt cx="222120" cy="453960"/>
            </a:xfrm>
          </p:grpSpPr>
          <p:sp>
            <p:nvSpPr>
              <p:cNvPr id="1036" name=""/>
              <p:cNvSpPr/>
              <p:nvPr/>
            </p:nvSpPr>
            <p:spPr>
              <a:xfrm>
                <a:off x="7240680" y="27939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305840" y="29289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378560" y="29289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291440" y="31212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938160" y="577440"/>
            <a:ext cx="7767720" cy="314280"/>
            <a:chOff x="938160" y="577440"/>
            <a:chExt cx="7767720" cy="314280"/>
          </a:xfrm>
        </p:grpSpPr>
        <p:sp>
          <p:nvSpPr>
            <p:cNvPr id="1043" name=""/>
            <p:cNvSpPr/>
            <p:nvPr/>
          </p:nvSpPr>
          <p:spPr>
            <a:xfrm>
              <a:off x="93816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870588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936720" y="574200"/>
            <a:ext cx="7769160" cy="314280"/>
            <a:chOff x="936720" y="574200"/>
            <a:chExt cx="7769160" cy="314280"/>
          </a:xfrm>
        </p:grpSpPr>
        <p:sp>
          <p:nvSpPr>
            <p:cNvPr id="1048" name=""/>
            <p:cNvSpPr/>
            <p:nvPr/>
          </p:nvSpPr>
          <p:spPr>
            <a:xfrm>
              <a:off x="93672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8705880" y="5742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53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5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63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73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79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85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”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9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9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o Slide Title</dc:title>
</cp:coreProperties>
</file>